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0ADCA-5445-463C-9C7B-8CDCCF679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EA54F-1FE1-457C-A0DC-1809C7303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466BD-7EE1-4456-B27A-5D87DBADC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13C85-030D-40D8-B73C-9E66523FB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655D7-AA06-4D8C-8A3A-CA9A33FFF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99EA6-200A-4F2F-B419-A56DFC77F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D0A7B-FC41-4C28-84EC-448E4078A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89728-05E5-4E7D-A202-4AD3AA253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9A14B-EF98-4A80-9F3C-57C44DD0C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1FFAA-E427-4BE4-A4B4-780F9FA4B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05A5F-4EB7-468A-8790-497C8561A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6EC61-7EBD-4AC6-80D5-DD73347DB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94D6C-C187-403B-9EB4-F499120C8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0EFD2-A395-40FB-B5B1-ACFF20202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93183-8F88-4A8C-93CE-E84AA59E9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14913-354A-4C24-BEC2-C2B2ED390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7E22E-FAA2-46DD-860B-561192D2C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168C9-5B8F-473E-BF30-80A7B5F87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C8DB6-FB07-495D-95B3-C605DA523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231F4-5A13-4912-8D48-3CB9B7F75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429E3-9623-4B92-8850-4B52B5566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DE176-DF4A-404E-A9B6-805D00A4E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ADBFC-FDC6-409B-A69A-2843F8151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82738-D2B3-44A6-926E-A23B3251D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39920"/>
                <a:gd name="textAreaBottom" fmla="*/ 2240280 h 22399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029200"/>
                <a:gd name="textAreaBottom" fmla="*/ 5029560 h 5029200"/>
              </a:gdLst>
              <a:ahLst/>
              <a:rect l="textAreaLeft" t="textAreaTop" r="textAreaRight" b="textAreaBottom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03560"/>
                <a:gd name="textAreaBottom" fmla="*/ 2203920 h 220356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>
                <a:gd name="textAreaLeft" fmla="*/ 0 w 7313760"/>
                <a:gd name="textAreaRight" fmla="*/ 7314120 w 7313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833560"/>
                <a:gd name="textAreaBottom" fmla="*/ 2833920 h 283356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>
                <a:gd name="textAreaLeft" fmla="*/ 0 w 4570560"/>
                <a:gd name="textAreaRight" fmla="*/ 4570920 w 45705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1C5C6-1B1D-4AD1-B43E-F6E9B03A5E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105520"/>
                <a:gd name="textAreaBottom" fmla="*/ 5105880 h 5105520"/>
              </a:gdLst>
              <a:ahLst/>
              <a:rect l="textAreaLeft" t="textAreaTop" r="textAreaRight" b="textAreaBottom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3048120"/>
                <a:gd name="textAreaBottom" fmla="*/ 3048480 h 30481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>
                <a:gd name="textAreaLeft" fmla="*/ 0 w 5484960"/>
                <a:gd name="textAreaRight" fmla="*/ 5485320 w 54849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>
                <a:gd name="textAreaLeft" fmla="*/ 0 w 7769520"/>
                <a:gd name="textAreaRight" fmla="*/ 7769880 w 776952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3108240"/>
                <a:gd name="textAreaBottom" fmla="*/ 3108600 h 31082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119920"/>
                <a:gd name="textAreaBottom" fmla="*/ 5120280 h 511992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F3A23-1F0F-4877-B218-F6855933177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mates of the Earth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Weather vs. Climat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Weathe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s the condition of the atmosphere in one place during a limited amount of ti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y to day condi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limat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s the patterns of weather that an area typically experiences over a long period of ti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 area is known for having these particular pattern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iny, wet Seattle vs. dry desert of Phoeni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arth’s tilt affects temperature and therefore weather and clim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xi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– the imaginary line running from the North Pole to the South Po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tilt of the axis changes the amount of sunlight Earth receiv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Temperatur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= the measure of how hot or cold it 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cales for measuring temperature are Fahrenheit and Celci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the Earth to complete a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evolutio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(a trip around the sun) it takes one year (365 day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b7"/>
                </a:solidFill>
                <a:latin typeface="Arial Black"/>
              </a:rPr>
              <a:t>Equinox vs. Solstice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Equinox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mean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qual night” 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en both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misphere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ceive equal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mounts of energ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Solstic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maximu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lt toward the su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the longest day of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unlight in the North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misphere or Souther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mispher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Picture 7" descr="seasonalvariations"/>
          <p:cNvPicPr/>
          <p:nvPr/>
        </p:nvPicPr>
        <p:blipFill>
          <a:blip r:embed="rId1"/>
          <a:stretch/>
        </p:blipFill>
        <p:spPr>
          <a:xfrm>
            <a:off x="3505320" y="1676520"/>
            <a:ext cx="5410080" cy="44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5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5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" dur="500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500"/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" dur="500"/>
                                        <p:tgtEl>
                                          <p:spTgt spid="1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" dur="500"/>
                                        <p:tgtEl>
                                          <p:spTgt spid="10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Latitude and Climat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60° N to 90° N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0° N and 60° N in Northern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Hemisphe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0° N and 30° S Low latitud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0° S and 60° S in Southern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Hemisphe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60° S to 90° 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Picture 5" descr="Climate-zones"/>
          <p:cNvPicPr/>
          <p:nvPr/>
        </p:nvPicPr>
        <p:blipFill>
          <a:blip r:embed="rId1"/>
          <a:stretch/>
        </p:blipFill>
        <p:spPr>
          <a:xfrm>
            <a:off x="380880" y="2152800"/>
            <a:ext cx="6096240" cy="371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Latitude and Elevation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152280" y="1447920"/>
          <a:ext cx="8686800" cy="5303880"/>
        </p:xfrm>
        <a:graphic>
          <a:graphicData uri="http://schemas.openxmlformats.org/drawingml/2006/table">
            <a:tbl>
              <a:tblPr/>
              <a:tblGrid>
                <a:gridCol w="2171880"/>
                <a:gridCol w="2171520"/>
                <a:gridCol w="2171880"/>
                <a:gridCol w="217152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levatio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atitude &amp; Longitud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verage Temperatur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to, Ecuado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,223 ft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2,811 m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°09’ 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8 °29’ W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 °F (14 °C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irobi, Keny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,327 f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1,623 m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 °19’ 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 °55’ 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 ° F (19 °C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ujumbura, Burundi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68 f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782m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 °19’ 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 °19’ 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7 °F (25 °C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naus, Brazi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6 ft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84 m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 °09’ 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 °59’ W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1 °F (27 °C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lluride, Colorad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,760 ft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2,670 m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 °57’ 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7 °49’ W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 °F (3 °C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205740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5T02:34:38Z</dcterms:created>
  <dc:creator>Lauren Amorin</dc:creator>
  <dc:description/>
  <dc:language>en-US</dc:language>
  <cp:lastModifiedBy>Administrator</cp:lastModifiedBy>
  <dcterms:modified xsi:type="dcterms:W3CDTF">2013-02-05T05:33:01Z</dcterms:modified>
  <cp:revision>3</cp:revision>
  <dc:subject/>
  <dc:title>Climates of the Earth</dc:title>
</cp:coreProperties>
</file>